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B47-5E19-43A2-975B-75818826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4D1-BB8B-4078-82E5-DD74C694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AE0-BC37-4443-83B8-2BE79FBB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254-0CAC-44F1-A80C-E1E5E459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3B6-B7F9-4708-B227-7FFD1AF1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CA5-956F-42BB-8B8C-A9D182C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2E8-E8BC-4B20-9D6B-4383BDA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4F3-9F80-4896-8A39-8DF4E03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DAC-1B58-41C1-8719-7DED291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BA7-A244-4EDE-8808-2600F41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E3A-16F3-48E0-8ED2-96790F7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7A8-CC38-4A89-BBC5-FDC4ADA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C7B4-F2B3-40D5-8AB0-5F8B6E7F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tail Market Guide Review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es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162-3D37-47FC-979F-EB8FC73F72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-off meeting between MPs, ERCOT Staff and PUC Staff on 10/5/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high-level review of current version of RMG and drafted new Table of Cont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d Section 1,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ewed RMG web page, RMGRR form and comment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D2C-F027-4E01-A673-3E16FEAA8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solved issu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Links in the R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revision process and identification of responsible RMS Working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assignments forwarded to Working Group and Task Force chairs and ERCOT Sta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E48-7F96-4BFB-B1D7-61A350E9F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to collect assignments and re-build RMG according to revised Table of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revised document to RMS explo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eeting scheduled for Tuesday, 11/9/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89D-7AC6-4DB3-B7DC-AF485143E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5T22:00:27Z</dcterms:modified>
  <cp:revision>277</cp:revision>
  <dc:subject/>
  <dc:title>PowerPoint Presentation</dc:title>
</cp:coreProperties>
</file>